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3.gif" ContentType="image/gif"/>
  <Override PartName="/ppt/media/image16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78D-F298-4E7B-A34D-D5326C20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A7C-E42E-4067-8346-4C4ACAC2D9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B27-AABD-42FE-BB88-5DA0D0F8E3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BE9-3029-4111-87BC-25ACB3A21D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8FDC-A7A8-4B52-BBD8-8841995656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540E-08F2-450D-85C2-760726AB31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5AFE-30FE-4CBC-8307-4C6D12F6EF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D82-2FA8-47CA-926D-488B72E56F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FBB3-A2D7-4B88-9BED-7B8C00AE91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AB0-688E-4F74-9490-A1C16661FF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0C2-FC83-4F31-B692-181C0C67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1DA-0450-4E87-9F5E-A548597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FFE-D9F0-4BAD-B045-8628AA7B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1E7-DC20-4FD9-AB4F-4C58A9AD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656-9757-484F-B386-722A8E8E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AC4-6EA8-4D12-A6B3-870036D6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67E0-6A9D-4B76-8E5B-E8788780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6A1A-0E5E-4782-94AE-09EE44B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EA70-D50E-4DD4-88CC-070018A7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3BC0-909C-4E1C-99B5-0F6A028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2323-2FE9-4BE0-A352-B282AC6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C1B-57B7-4608-8205-8483C785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AACA-E3F5-40AD-9574-04D52E43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599-9C77-4DD4-A33F-C01AF64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2768-FC1B-4783-AB00-378DACD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F2E4-E62A-4B5E-8AEC-3DE0B5B2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826-6821-4DA0-ADC6-C3D3E30D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258-C23B-4276-9263-C1C24282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184-08F2-42CF-9D66-CE1F8A7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02D-9F69-45D0-B51A-A4744DE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60A-4EF5-42A8-A926-4C6D8F1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5A5-5997-435A-9E33-B1A12607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D02-B4B9-42E8-A3D9-73C65DB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A85-B1CA-40D8-BEA6-D83DEA39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EE11-B7A3-4018-8E71-97EB60FFEC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402-298F-4354-BEE5-60E7C1448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anguage Regist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362320"/>
            <a:ext cx="7467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 of voices is an impression that’s left of your voice on others.  What kind of impression do you wan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http://www.fotosearch.com/bthumb/IMZ/IMZ006/car0039.jpg"/>
          <p:cNvPicPr/>
          <p:nvPr/>
        </p:nvPicPr>
        <p:blipFill>
          <a:blip r:embed="rId1"/>
          <a:stretch/>
        </p:blipFill>
        <p:spPr>
          <a:xfrm>
            <a:off x="3505320" y="4572000"/>
            <a:ext cx="23810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286000" y="242892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change the wo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respect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Pledge of Allegiance, marriage vows, poetry, prayers, announcements in the airport, and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rozen Register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7" descr="http://www.clipartheaven.com/clipart/education_%26_schools/cartoons/pledge_of_allegiance_2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320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www.ghostwords.com/wdng.jpg"/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ideachampions.com/heart/prayer.jpg"/>
          <p:cNvPicPr/>
          <p:nvPr/>
        </p:nvPicPr>
        <p:blipFill>
          <a:blip r:embed="rId3"/>
          <a:stretch/>
        </p:blipFill>
        <p:spPr>
          <a:xfrm>
            <a:off x="457200" y="2743200"/>
            <a:ext cx="1371600" cy="183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http://www.arkansas.gov/abep/images/Icons/MCj03230910000%5B1%5D.gif"/>
          <p:cNvPicPr/>
          <p:nvPr/>
        </p:nvPicPr>
        <p:blipFill>
          <a:blip r:embed="rId4"/>
          <a:stretch/>
        </p:blipFill>
        <p:spPr>
          <a:xfrm>
            <a:off x="7162920" y="2590920"/>
            <a:ext cx="17240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ormal Register 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ndard academic one way commun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: Essay or research pap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sentation/spee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http://www.fotosearch.com/bthumb/ARP/ARP123/dr_santa.jpg"/>
          <p:cNvPicPr/>
          <p:nvPr/>
        </p:nvPicPr>
        <p:blipFill>
          <a:blip r:embed="rId1"/>
          <a:stretch/>
        </p:blipFill>
        <p:spPr>
          <a:xfrm>
            <a:off x="3352680" y="5105520"/>
            <a:ext cx="133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library.sjsd.net/Images/cmpsilho.gif"/>
          <p:cNvPicPr/>
          <p:nvPr/>
        </p:nvPicPr>
        <p:blipFill>
          <a:blip r:embed="rId2"/>
          <a:stretch/>
        </p:blipFill>
        <p:spPr>
          <a:xfrm>
            <a:off x="228600" y="4905360"/>
            <a:ext cx="1727280" cy="1952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school.discoveryeducation.com/clipart/images/presentation-boy.gif"/>
          <p:cNvPicPr/>
          <p:nvPr/>
        </p:nvPicPr>
        <p:blipFill>
          <a:blip r:embed="rId3"/>
          <a:stretch/>
        </p:blipFill>
        <p:spPr>
          <a:xfrm>
            <a:off x="6324480" y="4724280"/>
            <a:ext cx="1971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sultative Regi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1828800"/>
            <a:ext cx="7619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ndard academic two-way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ually polite and courte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: discussions, questions &amp; answers in the classroom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 convers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-the-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http://www.misscantillon.com/images/teacher_clipart_3.gif"/>
          <p:cNvPicPr/>
          <p:nvPr/>
        </p:nvPicPr>
        <p:blipFill>
          <a:blip r:embed="rId1"/>
          <a:stretch/>
        </p:blipFill>
        <p:spPr>
          <a:xfrm>
            <a:off x="7315200" y="42670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s4.hubimg.com/u/743219_f496.jpg"/>
          <p:cNvPicPr/>
          <p:nvPr/>
        </p:nvPicPr>
        <p:blipFill>
          <a:blip r:embed="rId2"/>
          <a:stretch/>
        </p:blipFill>
        <p:spPr>
          <a:xfrm>
            <a:off x="1066680" y="4952880"/>
            <a:ext cx="2543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asual Regis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 one-way and two-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g, incomplete sentences and unfinished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Conversation with p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http://t2.gstatic.com/images?q=tbn:x5tu0uIlkRvbdM:http://i153.photobucket.com/albums/s235/revmyspace2/graphics/Girly/Slang/slang_0dont-have-a-c.gif&amp;t=1"/>
          <p:cNvPicPr/>
          <p:nvPr/>
        </p:nvPicPr>
        <p:blipFill>
          <a:blip r:embed="rId1"/>
          <a:stretch/>
        </p:blipFill>
        <p:spPr>
          <a:xfrm>
            <a:off x="609480" y="4724280"/>
            <a:ext cx="1676520" cy="195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total80sremix.com/wp-content/uploads/80s-slang-totally1.jpg"/>
          <p:cNvPicPr/>
          <p:nvPr/>
        </p:nvPicPr>
        <p:blipFill>
          <a:blip r:embed="rId2"/>
          <a:stretch/>
        </p:blipFill>
        <p:spPr>
          <a:xfrm>
            <a:off x="2895480" y="4495680"/>
            <a:ext cx="3333960" cy="221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www.myspacebrand.com/graphics/comments/slang/_img/slang151.gif"/>
          <p:cNvPicPr/>
          <p:nvPr/>
        </p:nvPicPr>
        <p:blipFill>
          <a:blip r:embed="rId3"/>
          <a:stretch/>
        </p:blipFill>
        <p:spPr>
          <a:xfrm>
            <a:off x="6705720" y="4114800"/>
            <a:ext cx="211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Intimate Regis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between people in relationships (husbands/wives, moms/dads, families,  girlfriends and boyfriends, or tw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 nicknames,  special terms, excludes others and has its own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http://www.lostrelations.com/home/mrsa/public_html/lostrelations.com/wp-content/uploads/2010/01/boyfriend-pic.jpg"/>
          <p:cNvPicPr/>
          <p:nvPr/>
        </p:nvPicPr>
        <p:blipFill>
          <a:blip r:embed="rId1"/>
          <a:stretch/>
        </p:blipFill>
        <p:spPr>
          <a:xfrm>
            <a:off x="3429000" y="4876920"/>
            <a:ext cx="222876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www.popstarsplus.com/images/SprouseTwinsPicture.jpg"/>
          <p:cNvPicPr/>
          <p:nvPr/>
        </p:nvPicPr>
        <p:blipFill>
          <a:blip r:embed="rId2"/>
          <a:stretch/>
        </p:blipFill>
        <p:spPr>
          <a:xfrm>
            <a:off x="6918480" y="4800600"/>
            <a:ext cx="1517400" cy="189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http://www.campaignforfamilies.org/img/family-together.jpg"/>
          <p:cNvPicPr/>
          <p:nvPr/>
        </p:nvPicPr>
        <p:blipFill>
          <a:blip r:embed="rId3"/>
          <a:stretch/>
        </p:blipFill>
        <p:spPr>
          <a:xfrm>
            <a:off x="685800" y="4876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 Indiviudal’s regis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Diagram 4" descr=""/>
          <p:cNvPicPr/>
          <p:nvPr/>
        </p:nvPicPr>
        <p:blipFill>
          <a:blip r:embed="rId1"/>
          <a:stretch/>
        </p:blipFill>
        <p:spPr>
          <a:xfrm>
            <a:off x="1517760" y="1384200"/>
            <a:ext cx="63403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Universal Ru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33520" y="1523880"/>
            <a:ext cx="6324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can go from one register to the next register without any confli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if a person goes from one register to another register, skipping a level or more, this  is considered  antisocial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2" descr="http://images.all-free-download.com/images/graphiclarge/green_check_mark_clip_art_9355.jpg"/>
          <p:cNvPicPr/>
          <p:nvPr/>
        </p:nvPicPr>
        <p:blipFill>
          <a:blip r:embed="rId1"/>
          <a:stretch/>
        </p:blipFill>
        <p:spPr>
          <a:xfrm>
            <a:off x="6400800" y="1600200"/>
            <a:ext cx="152244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http://t2.gstatic.com/images?q=tbn:ANd9GcTwydYYNAR3vzBWF6vKO-LWjsepMC4osngAvAIg-IVN1K_de3g&amp;t=1&amp;usg=__qyRxbJ6lTtS2U5yh6H5bdjgTSGM="/>
          <p:cNvPicPr/>
          <p:nvPr/>
        </p:nvPicPr>
        <p:blipFill>
          <a:blip r:embed="rId2"/>
          <a:stretch/>
        </p:blipFill>
        <p:spPr>
          <a:xfrm>
            <a:off x="6858000" y="4114800"/>
            <a:ext cx="1700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Language is power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5" descr="http://evelynrothstein.com/images/power-of-language.jpg"/>
          <p:cNvPicPr/>
          <p:nvPr/>
        </p:nvPicPr>
        <p:blipFill>
          <a:blip r:embed="rId1"/>
          <a:stretch/>
        </p:blipFill>
        <p:spPr>
          <a:xfrm>
            <a:off x="2057400" y="2286000"/>
            <a:ext cx="4667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22:10:53Z</dcterms:created>
  <dc:creator>teacher</dc:creator>
  <dc:description/>
  <dc:language>en-US</dc:language>
  <cp:lastModifiedBy>Mcadwell</cp:lastModifiedBy>
  <dcterms:modified xsi:type="dcterms:W3CDTF">2011-09-20T17:43:53Z</dcterms:modified>
  <cp:revision>36</cp:revision>
  <dc:subject/>
  <dc:title>Language Registers</dc:title>
</cp:coreProperties>
</file>